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2EBC-3E42-4C4A-AE23-C2666029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434-B164-49AE-8F29-F584F237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781-470E-4B9A-AE68-8BB7D83E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6C06-B9E8-441B-AFCF-33A9BC3B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B1EB-5955-4149-87CD-C6A308DD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B142-FD93-4761-840A-47055BEA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A62E-ABB5-4E72-9E55-7C9D3AD4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00B7-E356-44CA-9FC5-53C71570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1479-5432-43FA-8BE7-51FEA055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7A23-4FCE-4F36-988B-A2BA091B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42CF-C0AA-41D7-9A74-0F7CF26A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29F6-1FE6-4A29-B87D-7E4AD81A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0864-521D-40C2-B43C-537EDCD6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EAAA-C1F2-43FA-9044-E3608CA3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9608-E2C8-4D1A-A2B7-FE717E50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60DF-B439-4C85-BD42-529AFCDB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7EB4-F8D0-4389-A41F-B0B24A7C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4C2-598D-4199-AB0E-3429150A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652-A894-41F7-9C13-49412608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119E-4F4C-420F-A42F-8F97A284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086-D041-414C-8592-8BAD7B8A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60CC-C072-4F28-BD03-A33F39A4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00F-344F-4014-89E8-536D3796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518B-70C6-4397-ADDE-8CDF4480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81E1-4147-4E59-A45D-66D8511E9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20CC-132F-481B-B270-E76D58CD3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ing the Gamble out of Fantasy Base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3276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nnifer 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g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ril Marti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y Weinb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 Greg L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23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5711760"/>
            <a:ext cx="8226360" cy="914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504960" y="1762200"/>
            <a:ext cx="43812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19560" y="1828800"/>
            <a:ext cx="571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467120" y="3514680"/>
            <a:ext cx="438120" cy="67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912960" y="1444680"/>
            <a:ext cx="73134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" y="5711760"/>
            <a:ext cx="8226360" cy="9144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7313760" cy="4343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 flipH="1">
            <a:off x="3504960" y="1762200"/>
            <a:ext cx="43812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019560" y="1828800"/>
            <a:ext cx="571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467120" y="3514680"/>
            <a:ext cx="438120" cy="67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r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Te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838080" y="2212920"/>
            <a:ext cx="3429000" cy="3278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724280" y="1600200"/>
            <a:ext cx="396252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expected, players selected were those with the highest difference between calculated value and 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worthy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ary s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 form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alty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It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decision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unnecessary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rt solver to different worksheet if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alty function can be a useful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991720" cy="5867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437920" y="3580920"/>
            <a:ext cx="6324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Set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r Model &amp;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 &amp; 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one draft the optimal fantasy baseball t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gue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 Players per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Lineup Requirements: C, 1B, 2B, SS, 3B, 3 OF, 1 U, 7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ction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60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statistical pro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projected statistics into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normalized metric to compare players across 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value based on this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ected cost for each p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 total team value given budget and positional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G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projections for 1850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depth charts with expected play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ra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position elig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ag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ailing market values from leading fantasy baseball websites &amp; magaz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 De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 projections into points based on leagu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expected points over replacement player (PORP) for each player 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s value across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for other factors (health, free agent status, etc.) – APO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dollar value based on APO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et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maximize points generated by team, subject to budget and roster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target players with the greatest difference between calculated dollar value and expe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3 roster spots and $10 free for players with poor projections but high upside (option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" y="5715000"/>
            <a:ext cx="8226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2532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57200" y="5711760"/>
            <a:ext cx="8226360" cy="914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880" y="17524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504960" y="1762200"/>
            <a:ext cx="43812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019560" y="1828800"/>
            <a:ext cx="571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912960" y="1442880"/>
            <a:ext cx="6124320" cy="43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9:59:51Z</dcterms:created>
  <dc:creator>JW</dc:creator>
  <dc:description/>
  <dc:language>en-US</dc:language>
  <cp:lastModifiedBy>Gregory R. Lee</cp:lastModifiedBy>
  <dcterms:modified xsi:type="dcterms:W3CDTF">2007-04-20T16:35:20Z</dcterms:modified>
  <cp:revision>14</cp:revision>
  <dc:subject/>
  <dc:title>Taking the Gamble out of Fantasy Baseball</dc:title>
</cp:coreProperties>
</file>